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11B-2052-490A-A168-F81D3C64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F29-BD99-4A19-AC00-39148B11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D1F9B-D422-4CD2-9696-31808D0C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3D061-C6BC-4EA2-AA3D-912EC18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95258-8B14-4990-81A0-44BA71C8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DB19C-C06C-4221-9A0D-06F1E26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76A43-BC1E-48DF-BF0C-E82F9E3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9391B-7605-450D-A02B-59B48142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FA0D3-6D26-450A-B3A4-1A29DEE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6E8A0-A30E-41CB-9240-06571A40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EA4A9-B054-4E07-819E-C740C618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43AA0-8AA7-4BFA-A7E1-4C699A84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765-1BF4-41E9-BCFA-62D95127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E62B-E723-4E64-A6F2-17781FF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B6EDE-B143-4D76-ACDD-71892D1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C800D-090F-4F47-8952-C7F15662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8E357-96DE-404C-8180-E7BB2377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EC343-AA38-4C33-8E3B-1945886E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B7D13-1D8F-48A6-B87F-DAE9AF6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887F1-F0D7-4118-825B-39D431C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0D5EB-D09E-471F-B44E-BFBED7E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CB79E-5773-4AEA-8E85-5B07B381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34D6D-A357-4FB2-8F9D-2A3BAA98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381-411E-4489-8FEB-B3F005C8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5A22B-9145-40ED-AED7-FF5D1853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6C203-95B8-4118-BE10-677E0919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06B22-8B78-45C8-868E-EA9DE6C6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90F3A-58D5-4CC7-9E89-3AEAA913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50AFA-0942-45B6-90ED-4755FA6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27FB5-5605-44CA-AF6A-43B8D588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00A0-DBBC-40C6-A2C7-F1F236A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A35EA-EF3E-434C-B5DA-9A4B71A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1864F-3F3F-44D6-9158-9D56C90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70581-F7A9-4D03-A801-6C95168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26BE-BFB7-4158-9097-51EC149C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AEFB-B057-4F7C-BFF3-197A84A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881A8-F6DA-4902-90DC-235438E8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68520-4FB8-42B3-97A8-CC021968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D3C19-F2CE-4F95-824D-319F68AF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589CF-BC99-4121-B386-106FAC6E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BDD6A-A479-4180-A4C4-26908037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CF1A2-C836-4D9D-AB73-1E6A722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755B0-0420-45F7-8C87-7D1AA6C9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9F0DC-FD6D-4BF9-88F5-4C571A7E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064C5-C197-47DA-B926-B00E0F1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1C55-0AFE-459E-81E5-4A48D9A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A5026-C220-4CC3-A478-4799C00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DD985-B0C7-4079-94CD-3FC1D29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FF8B0-5EE1-440E-A3D1-857AC0B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ACFD0-C381-454B-AE4F-28D7808F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881D2-7672-4E73-B8AF-387AD772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566D-6358-4411-8385-1349188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928-B86F-42A4-88ED-B280218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81BD-FB70-4DA1-9960-BAE82E9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2952-BB98-4651-95F3-9BF32F02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F2F6-7A85-4D42-91DA-400E35F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13A-CB66-4D4A-936F-6A699978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6401-CB9D-4775-84DD-E2D1303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CA38-AB08-46C9-9A6E-9D7F349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9C7C-9C06-42A8-BF23-C0AF6696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B260-AC74-4D36-A6B0-C5620AAA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04D-9E32-46A3-9256-A73E8DB6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44D8-C5CB-4B6E-8010-5A27205E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A73EF-7BCC-4203-8AB4-A7E31CBF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E71B-F2B2-4C0C-B14A-7300F457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E980-F6AA-4306-89AD-45701223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6C9A-4351-4612-882B-2E8E8CC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454-FE44-424A-9464-F9E550F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4212-7662-48D1-A055-E92707A2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0030-E270-4207-886F-8FE1AF6A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B0E8-AB60-46ED-BA7D-E20205B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F4FE-2C75-4146-AA82-ADADC5D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9DD4-15D5-4725-846E-4859B52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9273-4E9E-4A70-A8AB-B3D96B6B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EDB5-DFF9-4ACB-B2EA-E22925D3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8088-C28E-4344-85B0-0D4A9C55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E9F6-706F-4600-894D-1D387A1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93D5-302F-4383-8F07-DB2F241C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8DD-B0D4-403C-966F-B2B6207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9D0A-940A-4D6D-8657-D9B3161C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C531-A16A-4E28-AE15-723EF0A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8D19-BB5E-4BA3-90BB-880F3AFA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86E4-5084-4F81-9365-39BEE1B8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66C1-6DBD-4BD7-9B1D-F242680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E427-335E-41FD-88AA-E974B057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6E95-F2FD-418D-A467-720E73A0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0528-920E-480B-8D05-44CF29A1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BAFD-C8EC-480A-B68B-A88DFCDC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1BCC-70F1-44F6-BD79-ABCA1168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43C-60FD-4661-BE2D-8C4ED5A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9284-06F9-44A2-8345-F4299F4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17AB-3B61-42E8-9BBB-1E8955B9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F6DD4-58CA-4720-A4DE-76B24908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3C37-E1C8-4863-B384-685C55FB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CB99-6058-4283-9D40-379E631F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3FAF7-88EF-4817-A9B7-8B911B4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2154-3022-4397-9446-07ACE1B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59781-C111-443C-887D-F269D39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AD46-5D27-43DB-8F10-6EE583D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B79C-316B-4A4A-B07B-6B6F6BCD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CA4-DF88-4907-9D3C-7346C05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0970-2CC6-4BD1-8463-40A2DFA6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6A92-C413-40E3-B95B-4E7680F8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4779-9820-43F8-934E-6BA40CC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CAA2-28B1-4224-BAA1-2F52C94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48A1-C18E-45C3-BDAA-C2169B94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86AF-6038-4739-A045-8CF5C36D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B92B5-CA07-4FAE-B12A-F055EEF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2C85-6C0E-4468-B3E0-C09DB98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9C44-D0F9-4A77-987C-DF15D1E7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34D1-DE24-4E19-99E7-C230AB3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438-6B6E-4A55-BDE8-9A91A36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7A4FB-740D-4AD8-BEF7-B855590E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006E-09BA-4BB7-9B2D-1A220D83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2DE6-0440-4620-AEB6-25A84EA5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D5482-1B0A-43A6-9D34-EDF4BB00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12745-F6CE-4C95-97A3-7352193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E17D-0137-475E-9C5B-174925A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8DDD0-7080-47DF-9B50-515A612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3373-1F98-40A6-92B6-F6D77E3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B9F0C-82BF-4ABD-9FC0-C108E3F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CCAE6-EE12-4818-AA78-F2FEEF66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CB7-9F82-4281-9179-B030F36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28CD-15E4-475C-85CE-6B6BD43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0CB8-7832-47A0-B9BD-6D027A8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4824-9A84-45A7-9B03-98F44259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DEFA2-40BA-4FEB-8AA8-62B28EB8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C868-B1B8-4097-B748-E825D6FB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614A7-566F-4B2F-B565-D1EC3CA2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8093-C2A1-4072-8D83-1E87BF8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7CB92-9AF2-4F24-BDFE-E3589552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4E7B-A079-4BB1-9E4D-69EC4A60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DD1C-62C5-45A8-93B6-6F7C80F2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9A1-3C98-4F4A-9896-02E57BF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246E2-87CC-4DBA-BFBE-0DCC3F2E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7F0F-ED82-4B1F-A89B-B8D8A5D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3CEE-9DFC-4073-9628-6521753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3B51A-D037-44DF-A965-0C0E9F6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6F01-1629-415A-973C-F8A2A222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7B85-4BE8-493A-B87C-EBA8AF79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EE430-77E4-496B-8F70-92F6121E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30EEC-B008-4E52-AD60-E0F107B9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D2809-781D-44BF-B248-A4422796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D8D13-A303-4EB2-BE8C-60BACACD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A054-570D-488A-8C4D-C5FA5A0A80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F06-7934-41F8-A16B-9C3FFB70FD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97E1-4316-45F5-803D-94AA4473275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55A6-7F55-42A8-A8F5-BAC83E632B5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29F4-196B-4F1F-A177-265CAE69D4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9152-2DEE-4839-8D73-03796F38288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550-5DFF-44C3-ADBA-A0E018E740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D56-2E6D-4CFF-B1E2-961B53BF69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A05A-5A71-46FC-B27D-1BBF485C336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B0A5-31AF-4B8A-A352-CCC4096B161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603E-BB99-4474-80D4-6F198797444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5FAE-6F69-4177-9732-CDC5FA152D0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onomagic.com/gif/g1280122018001181630736479471966028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AN  GUL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VISHAL  KAPAD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YAN  LOWR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EHUL  PATE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SON  REICHAR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bability of a U.S. Recess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te Carlo Simul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ochastic future values for leading indicat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sign a distribution to each variable using a chi-square ‘goodness of fit’ t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utocorrelation (serial correlation) – certain macroeconomic variables display ‘inertia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ochastic future values for real GD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djustment made for existing da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rrelation with each indica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utocorre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ystal B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7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375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te Carlo Tri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4343400" cy="12812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417920" cy="13032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"/>
          <p:cNvPicPr/>
          <p:nvPr/>
        </p:nvPicPr>
        <p:blipFill>
          <a:blip r:embed="rId3"/>
          <a:stretch/>
        </p:blipFill>
        <p:spPr>
          <a:xfrm>
            <a:off x="3352680" y="4952880"/>
            <a:ext cx="44182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ill we have a recession in the next six quarters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ased on 100,000 trials, there is a 37% probability of a reces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4956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rtcom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latively low R</a:t>
            </a:r>
            <a:r>
              <a:rPr b="0" lang="en-US" sz="22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between GDP and leading indicat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ing historical data to predict future performance not idea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near regression based model, non-linear requires more advanced techniqu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rtcom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ach economic cycle is differ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 the current weakness in the housing sector turn out to have a bigger than expected impact on growth?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akness in housing is being partially offset by weakening of the nominal USD exchange r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are seeing a less than full pass-through to inflation, so the real exchange rate is weakening, increasing the competitiveness of US exports in the global marketpl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alitative Analys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Bottom L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6137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ecasting business cycle fluctuations is inherently difficul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is increasingly clear that a severe US recession is inevitable in the next few months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Nouriel Roubini – Professor of Economics, New York Univers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t is unlikely the US economy will fall into recession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Abby Joseph Cohen - Chief Investment Strategist, Goldman Sach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croeconomists have successfully predicted nine of the last five recessions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Yoram K. Bauman - Economist/Comedi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666000" indent="-185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a reces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ally – two consecutive quarters of decline in real gross domestic product (GDP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ore broadly –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recession is a significant decline in economic activity spread across the economy, lasting more than a few months, normally visible in real GDP, real income, employment, industrial production, and wholesale-retail sales.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 National Bureau of Economic Researc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Business Cycles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Fluctuations of economic activity within the long-term trend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GDP measures output of an econom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eal GDP is adjusted for infl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657600" y="5333760"/>
            <a:ext cx="50292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Shaded regions represent recession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6" descr="Economagic: Economic Chart Dispens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828800"/>
            <a:ext cx="5870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urrent U.S. Economic Climate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ast recession occurred in 2000-200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24 quarters of positive growt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2" descr="Graph of Real Gross Domestic Product"/>
          <p:cNvPicPr/>
          <p:nvPr/>
        </p:nvPicPr>
        <p:blipFill>
          <a:blip r:embed="rId1"/>
          <a:stretch/>
        </p:blipFill>
        <p:spPr>
          <a:xfrm>
            <a:off x="2895480" y="1371600"/>
            <a:ext cx="6102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2133360"/>
            <a:ext cx="85042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 – to create a model which calculates the probability of a U.S. recession in the next six quarters from a statistical stand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l U.S. Gross Domestic Produ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xt six quarters is output of mod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puts include historical GDP data as well as economic indicat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4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ference Board’s Index of Leading Indicato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verage weekly hours worked by manufacturing work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verage number of initial applications for unemployment insuran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mount of manufacturers' new orders for consumer goods and material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peed of delivery of new merchandise to vendors from suppli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mount of new orders for capital goods unrelated to defens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mount of new building permits for residential building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&amp;P 500 stock index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Inflation-adjusted monetary supply (M2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pread between long and short-term interest rat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nsumer sentiment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gs and Correl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6" name="Picture 6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925960" cy="22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1752480" y="4572000"/>
          <a:ext cx="5562720" cy="1600200"/>
        </p:xfrm>
        <a:graphic>
          <a:graphicData uri="http://schemas.openxmlformats.org/drawingml/2006/table">
            <a:tbl>
              <a:tblPr/>
              <a:tblGrid>
                <a:gridCol w="2471760"/>
                <a:gridCol w="2100240"/>
                <a:gridCol w="99072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ading Indic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rrelation with Real G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arters of 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Claims for Unemployment Insur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of New Orders for Consumer Goo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 Rate Different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esidential Building Perm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or Performance Ind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P 500 Ind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al Regress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5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59007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32:31Z</dcterms:created>
  <dc:creator>Alan M. Gula</dc:creator>
  <dc:description/>
  <dc:language>en-US</dc:language>
  <cp:lastModifiedBy>Alan M. Gula</cp:lastModifiedBy>
  <dcterms:modified xsi:type="dcterms:W3CDTF">2007-11-26T16:08:10Z</dcterms:modified>
  <cp:revision>74</cp:revision>
  <dc:subject/>
  <dc:title>Probability of a U.S. Recession</dc:title>
</cp:coreProperties>
</file>